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21F-B0E0-43FD-96F8-01A4F196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FC8-9E67-4C12-819A-8803D1C6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3EB69-9207-4ED6-9EB1-024921FD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32A45-5B9C-4095-8786-6F96B2AB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F3A3B-D4DF-4CE9-A8A6-0D20A3F0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F8DAE-BD94-4BEA-89A3-9160664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31B13-3869-4285-B7D0-DDD7D166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272EE-1059-4F30-B938-7CFE674A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22F98-1F07-40F6-A38D-2C565940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A8769-CBAB-4CE7-B04E-B5B7A256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C1D40-3983-48C6-BD44-7B8A0679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F233D-5B19-491F-89AA-614ABB3D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34A-3E3D-46FC-AD33-0563B781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70A71-79FC-40FE-822F-A379C1AF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B3FE8-4162-40D4-89FD-CFC252CD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CAEE9-B6ED-4BA7-A6E1-39E16EE8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66419-3249-4955-965E-6E4C0430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7226F-F0C5-4224-A769-FD1E2E80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237BD-CD7B-4B58-948E-F610E54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A7DE9-1D5D-4C0A-8824-8284C370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2CF51-99E0-4393-91C9-6633FF7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3854D-7FAB-49F5-8F03-2A020517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97025-484F-4420-91CE-A07876DA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5F8-A0E3-4798-B411-06944B78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0D26E-7554-4A4C-9093-461D7C7F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F73E7-9D16-413D-AA18-D923811E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75B6B-0BD0-42A6-B908-9F1C0FD0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DC6DF-1D67-4080-8F0B-ADB1F5F6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5A4B5-23B7-42C3-A1BE-81338741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2B9D3-FFCF-465E-9E06-22E9EAA6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BAF1F-2B15-4767-B60B-0F7831CB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1AB5E-2BC3-48E2-A48B-B5CD890E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FCFFD-7809-4AD9-9082-57F3BE65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53C60-8BCB-4B7D-9DE0-44BFFD89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9795-B4BA-4D11-BCE9-891B25B9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12CF8-A248-4A10-A389-4E98766A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C8CED-B3EB-47E0-8665-06199393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7E504-BD6F-41A0-AD8E-87EF18D6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BDAA7-58ED-4021-B925-742CDD8E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728CD-B092-49BC-9C15-42AA42C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83759-EDA0-4A83-9279-D861858D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75640-C683-4F9F-9AFE-C5F56B11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2A4A1-C873-4A32-8076-55AB4D2B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A0F45-DA81-487E-8D3E-7B736C89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2CBE4-0DE6-492E-B70D-AD7962AA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E0C8-E5E0-4569-9C2A-78CEF0E3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AD2A5-8222-4F00-B14E-809D1F83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62375-49F6-4C12-B30A-68E65739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FEC80-30A4-47D6-A600-EB592A53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BD4BB-72BB-4737-89B8-25629005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32421-9451-4250-AC85-4A94D9D0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9CB05-07D4-43C9-AE3C-57F4328B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5B51C-1542-4CF0-BF0B-FCFA029C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36225-83F8-4B7F-A1DE-1CF732AC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FDB08-7C2C-4319-8444-2D924445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01311-4E9A-48E4-96CD-6D8662D1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6800-2B45-4B07-A8DD-CEEE76C8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7EA3F-0CF1-4562-82B4-0D30637E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183BA-509D-425C-8B2F-500248C6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7C2BF-3140-4D24-A18D-11E6364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B0525-FEA4-44BD-9908-82E8B4A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0B757-6FD3-4E3B-BD56-4EA4B634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ACD31-FAB5-4940-B236-EFF90DE1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E6A08-317B-4A5B-B670-DA3D274F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BE3FA-736C-4708-AC89-E98043C4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B2563-A613-4257-A669-1D59480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E0DA9-D684-4D2F-B42E-0DAF73B1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E813-2188-44D1-B072-044BAB3C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F508A-1BFB-4C63-8045-49835A5E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A6709-3597-4ADB-9F6F-60806256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65682-DAF0-4F4D-8A2E-93661D68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3F4A4-6D77-462F-8508-F4FD5B30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1C022-1D36-4A0E-A9D3-F90CA873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3838B-31AB-4A3B-9706-389DC8A3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6832F-47BF-4F1D-B449-4C4E7B4D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4AFA1-D795-4CD4-AFC4-7B6CD3CF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B0E35-2F12-4256-985C-2D32F47E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483F4-4EC8-4B1C-9ED9-8D3915EE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BD88-F0B6-428B-AB60-C4AF61F7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DB9F4-E1EF-45E5-95A4-B21DC2C4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A63A6-0970-41A6-9826-2AFC4221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B6D07-36D9-4B98-A942-0AC637CC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06804-DBCC-4367-A5FA-7D9976A8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7EA31-F659-4911-9272-1B44C8E1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F7776-F3AF-4BD7-94BB-965FA96B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95ADC-BCD0-4E2E-86E4-BA350B1A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FCE2D-5210-4836-B205-86FCF4DB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6450F-5FF5-4BAA-8BBF-CB8E3E94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6FB3F-4C4E-4A86-931B-B1764F28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5AA5-C2AC-4ECF-AAAA-C1FAC75C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53618-2CE4-48B0-AF09-C4469760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3A28F-E1DE-4D02-B4FE-DC73873C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3D2E2-5530-479C-AD46-571F838D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5BAD5-245D-4337-9AFD-5DBAD1D7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EB12B-44B9-49A0-BC38-F37D8713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18400-20B8-463F-88CF-10863BA6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1754A-7970-4F0F-9F08-347B54C2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D257A-F2E9-45E3-AB30-23AA03C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2D22E-FA8F-4DD5-8099-2D822CF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40936-74F5-4B75-B422-9F6D32F0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346D-8AE2-46D6-B53A-3E35A01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08A06-4E40-477B-9ED4-BC0B1D9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85D03-0ADB-48A9-9DC5-34B94CB6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9CEDC0-6F78-475D-AE23-E89AB9D1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36FD3-7F7D-461F-972A-ABFCD036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310CF-65B7-4D44-B64A-6F1EFFDD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C03E1-8309-466A-8E7C-77AF7E77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3FB6B-1B4F-482F-BA75-98987BF9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9F8DC-9790-420A-AD1D-1E89201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6694B-701B-4229-80D7-FF5ADC6D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29C9D-EC72-4F03-8AA2-23023B38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92D-F299-4079-856A-2ECBBCC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96C2-5877-4428-AB6D-DDD62783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5D21F-F779-4AD9-B1A9-64AD5DA1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790D1-2F3D-4C19-9E65-39638170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67D4E-E9C4-448E-AEA8-F6A7FDA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5ABA1-55B9-4A54-B3C1-85282E29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630D3-E496-449F-8509-DAF22BA8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849CE-5A09-4AAF-8B18-35BACECF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DCB95-3802-4DD2-A5F8-36EDBDA9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A5924-2339-45E7-862F-609103BA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91071-662C-4184-A27A-1DBE3D78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4C71A-A5B8-4B5F-BB57-C340848F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AF77-2C34-40A9-8B12-9B154283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54ECC-BFC5-4C37-A960-582E677D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0BDA4-314F-4992-8997-46DF499C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2CBE4-0BD4-4C3D-AFDF-0AB1135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3F76E-680B-435C-9F24-0BC16F17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D5613F-4868-43FF-B5BF-609CAD97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8F344-DA5F-423F-992E-DC4D2580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BB691-99FA-4519-A53C-C3916E5B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5B351-2720-4BD8-9EC9-4B10C9A3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F2F40-1058-4329-AB76-11AAF92C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A4715-6B48-4148-9E49-31ECFFBC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0D4E-751F-4EB4-A836-C14D5958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06EB5-A246-4033-9844-4E5EBA25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A22F5-50C2-4537-825C-2EA5163E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131E9-DADF-4852-9A3D-0CFE01BB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1B444-A9B9-48D2-8052-E244BDD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BC635-39FB-48B1-A8FD-78FB0D2F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E6007-4315-4F4D-9269-01727FA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6B2ACA-AA2A-46B8-9779-4806E8A9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3793DB-6773-4278-9F45-B8C1C237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5B155-68EC-48FD-B8CF-47AF3BF8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66516-6203-43D9-9E7F-96E576B1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8F91-0158-4ACA-AD29-0E83C78A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CC667-D19F-40C6-9772-133E27F0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876A68-5282-434B-A9D1-843870B9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EAD16-0F49-40C4-B3A5-E8419707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E4C950-D67B-4777-AE50-91CB66A0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1DFB7-85D6-4F6C-B924-A3B54982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64745-F537-495C-A716-56FF901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9D2D3-38D7-49AF-AFD3-09B406BB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8E78F-1A84-4857-AC34-521280E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4141E-4C91-4195-A5C1-271E774B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283D4-2635-47D9-9D83-D230F2C4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EC61-053F-446A-8657-2623E431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1D3E88-000F-4545-A2FF-94BF1B30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E82F55-9575-41CC-A2DB-7E55B0A9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034B6-D601-4EC9-AE5E-193362A6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42F96-A88E-4267-9FFA-881DBECA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00081-A2E8-4455-ADAC-471F2CFB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DEA6A8-2206-4164-8AA4-9E2FD1C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DFA50D-2D84-4835-8F14-72CB9376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77B24-AB8D-4004-9592-679AA226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7684F-7923-4014-9B60-6C3C8F5B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7B02A3-A05D-4C0D-80E3-70F32EF9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DB84-D493-4F19-93EC-2267AD20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C311F-E1B7-4BF9-85CD-47CDE9CF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BF4BBA-11F9-4A04-A5F3-92DC59AB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5F418-70FA-42B4-9357-396AF3A2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6DE3-4F6A-4A7D-A435-1DA79A43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C839-4480-4241-ABC5-FEEC108B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BFA7-39EF-4AB8-A3A4-6CB587CE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3844-0238-453C-AEFD-516D1B7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EBA-4952-4F6B-AF41-85E9A1A2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A0E9-BA82-4D72-B509-AC0E2C10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13CF-A961-4DB9-A4CD-7A65D489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618F-5FD6-4230-A802-90E48D30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47A31-1C83-44C9-93F7-AEB095D3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6BE4-CD47-49D5-88A9-BF980AE0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26C8-7A22-43D7-B20A-FCD78988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B074-956F-439D-99D3-7ED26FC1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368B4-FB55-4D05-A638-F34282A7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216C-3DEC-4FFD-916E-D35A0B3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07C1-E5F9-4129-B6BC-D104B0C5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FD9-C482-4547-AC46-C5B8E087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7E86-F176-4E4C-988E-0F3C517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F143-1A71-447A-AF18-D80BF952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397F-82F9-4832-AB0F-62FEEE86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D339-5BE2-4090-983D-2A183E13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A14E-1FF4-44AB-BD41-77901B27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749A-A4D4-4E4E-A6B1-21C40756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BD1E6-C1E2-4969-839E-347BB36E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38E6-731C-482F-AFCB-A738F732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5E64-6FDD-4EE2-89D5-C9EF6BA2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ACF2A-A965-4B98-87AE-C92BB3B0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D5E-E9F7-4909-82A2-92C030D7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CE4C9-F640-4161-9DC4-8A04EB5C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C7641-A312-4DC1-BFB8-6C2BE9E6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01CB2-B7BD-462F-BC12-619E9F95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BEA8A-F085-4740-BA21-C2CC05D2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42E62-9C47-4003-9BA4-ACBBA116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D732B-C632-422B-9D17-FD5309EE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36339-337E-4A75-83C5-45B3D92F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6111-9E20-4A92-B1E0-EE0C0BA8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1D477-064E-4780-990F-09FCD928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C9B52-D0A0-4204-8744-BB778A45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36A-D188-446A-921C-9C2D9CCD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D4AB4-197F-4E1A-A6DA-3287D017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73F9E-9C87-4343-908E-92002A6B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C1820-90B1-4F49-9114-5314F40E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67CE4-DB26-4344-8F24-A909C9C1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D3EFD-C513-4B24-A89A-C7EF9712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BCD3-4398-4B9D-93EF-EC6D0D9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BB7C-0532-4CFD-A78E-85BEAD18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7B3FA-F4B3-4304-99B2-7B34FE5E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195F1-D1A0-4F87-AB5F-7E94630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C418B-6894-465E-9234-B01886D6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88B-2745-4180-B0F5-16CFBA19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DDDFC-00E6-4391-BC66-CB012B27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6FB74-A2C8-454F-A5DD-5A5ADC59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803B9-ACC3-4488-BD3F-C4FC0266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3405E-E51F-4DAF-B8F6-691EC0BD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3C14B-AAB5-41B3-97BE-F4B84080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BCE6C-195B-424D-9C04-AFCD11F1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2F847-D94C-4908-B868-BEF0747E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2660-1170-4161-99B0-7ABBF343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B06B3-143E-435C-A6A8-7578A40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7FEA4-9A6D-43F9-90B6-117BBBC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DB5-205F-4CCA-B030-30FECA63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634A4-2702-425B-9E4B-B2CFCFB0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02FDB-C350-416C-8A25-C547AB16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56CD6-3356-405B-A4BC-28D6A6FB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A12F-5204-4C19-97E4-0B43376B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07FB0-4FBA-481C-92CF-D19448C7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7480E-020C-45E9-8FB2-9E4A6AD6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23BC2-3814-41FB-92F9-24379569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3FF62-9DE6-4C53-B112-6D00B38A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EC13E-EAB2-4238-943F-6CCB257F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64032-2E45-4821-84F4-0007C21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2B6-7F2D-42F0-88C2-3AA39F9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D4F9A-1948-4F43-B74F-2BC62620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64DA6-4AF3-4522-9823-F995D3B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92A07-3194-4FA2-9E9B-5663F25C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81BE6-C8FA-4FDA-91E5-054D7D9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C5A7D-1298-4733-A9C8-3C252C07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3EE84-07B6-48DF-9596-E3E30108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1F346-D3D0-487F-96FB-5666F044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F16E8-0E2A-4943-B653-2F7BC552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F1E0F-9FC3-4744-9D84-8FA529E3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68EEE-08FF-4646-BD90-7D6208D5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CEC0-BD5E-424D-93E0-39DFECE9C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C902-01DB-4D21-A4EC-47B16F2D4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9E1-4FA7-4036-9535-591CCB3D5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FC29-2D3A-44ED-9652-9C4E843ADC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1B32-7491-4B42-9AA4-E3787B750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3D23-8550-452F-901B-E6B37F5192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21C3-B5B9-4566-A8CB-560DC9B3C8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C4F5-E009-4D22-8EA4-86D0F2BE7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8DCA-B9AB-4C11-9921-FE31D8FD81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2898-6442-43E7-AF86-E78F0043C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C95-94F7-44EE-B571-BAA61469F5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46F5-EBDE-4739-8275-A1B63FE660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E910-A460-4A46-89E1-A12D275637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E0AE-5EF8-4EF3-9A93-F8DC2B49C8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6832-DEDF-47A6-9C31-8F6A7F389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798C-14AF-4458-BD23-7AB98CD37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3995-811B-4F21-871C-8579AE36A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151C-3060-4495-B81A-15EF831B02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6834-A7CC-44D5-B832-6C9ADF8EE9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757B-60CC-4EBF-A8D0-DEF6746AD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7927-3700-4403-B76D-A68E5A7815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A50D-8226-46AA-BF32-5D2A5DE40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4516-E32A-4A57-AC17-2AC25676E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E776-CA77-4933-88D3-23CE07FB96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7B63-E879-40DC-9A0C-E47299773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553A-30E0-4C30-9090-DE256A47DD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07DE-9EB8-4175-A9D7-41EC54607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1B42-2E56-4380-91F6-881F4DDA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9C2D-C23C-4622-981E-DA0DFC619E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0116-98AA-4CE8-9016-AF89DC130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2745-9654-4603-9ACE-63702D420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D9FF-35A8-4A51-9AC6-D9DF6C5BD6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3616-714B-41D2-B5AB-38C284A8A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7679-D725-489F-A946-5A5145CD94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BDF-4C5D-413E-9CDE-7DEAEDC4F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D02C-9E5E-46AF-A95A-70C3218573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A15B-3A4A-45D5-BBBF-B4CAE8B9ED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87A9-3AF1-40FE-98FE-0E3E1E776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70C8-AA8E-4962-ACF9-0A741F60D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E6EF-B091-4730-97CA-E567457103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966960" y="3052800"/>
            <a:ext cx="72100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685800"/>
            <a:ext cx="8315280" cy="61722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6572160" y="2357280"/>
            <a:ext cx="121464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3857760" y="3286080"/>
            <a:ext cx="142848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3214800" y="4357800"/>
            <a:ext cx="142848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3286080" y="5357880"/>
            <a:ext cx="114300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4832280" y="5321160"/>
            <a:ext cx="114300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4206960" y="6308640"/>
            <a:ext cx="114300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57200" y="947880"/>
            <a:ext cx="8229600" cy="496224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4071960" y="1500120"/>
            <a:ext cx="185724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4214880" y="2000160"/>
            <a:ext cx="185724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4000680" y="3000240"/>
            <a:ext cx="214308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3357720" y="4000680"/>
            <a:ext cx="171432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6572160" y="4000680"/>
            <a:ext cx="17859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3143160" y="5000760"/>
            <a:ext cx="150012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504720" y="1533600"/>
            <a:ext cx="8134560" cy="379080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1725480" y="2508120"/>
            <a:ext cx="1214640" cy="366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3357720" y="2500200"/>
            <a:ext cx="1214280" cy="365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5786280" y="2500200"/>
            <a:ext cx="1643400" cy="365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3500280" y="3857760"/>
            <a:ext cx="142884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6429240" y="3857760"/>
            <a:ext cx="57168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1714680" y="4849920"/>
            <a:ext cx="10206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"/>
          <p:cNvSpPr/>
          <p:nvPr/>
        </p:nvSpPr>
        <p:spPr>
          <a:xfrm>
            <a:off x="3475080" y="4846680"/>
            <a:ext cx="1019160" cy="376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9"/>
          <p:cNvSpPr/>
          <p:nvPr/>
        </p:nvSpPr>
        <p:spPr>
          <a:xfrm>
            <a:off x="5715000" y="4843440"/>
            <a:ext cx="6429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04720" y="2028960"/>
            <a:ext cx="8134560" cy="28000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2500200" y="2500200"/>
            <a:ext cx="1020960" cy="365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4035600" y="2535120"/>
            <a:ext cx="500040" cy="293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5072040" y="2500200"/>
            <a:ext cx="7142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7800840" y="2482920"/>
            <a:ext cx="71460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6"/>
          <p:cNvSpPr/>
          <p:nvPr/>
        </p:nvSpPr>
        <p:spPr>
          <a:xfrm>
            <a:off x="1714680" y="3000240"/>
            <a:ext cx="71424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7"/>
          <p:cNvSpPr/>
          <p:nvPr/>
        </p:nvSpPr>
        <p:spPr>
          <a:xfrm>
            <a:off x="3286080" y="3929040"/>
            <a:ext cx="128592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8"/>
          <p:cNvSpPr/>
          <p:nvPr/>
        </p:nvSpPr>
        <p:spPr>
          <a:xfrm>
            <a:off x="5346720" y="3882960"/>
            <a:ext cx="150012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9"/>
          <p:cNvSpPr/>
          <p:nvPr/>
        </p:nvSpPr>
        <p:spPr>
          <a:xfrm>
            <a:off x="7572240" y="3925800"/>
            <a:ext cx="70488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10"/>
          <p:cNvSpPr/>
          <p:nvPr/>
        </p:nvSpPr>
        <p:spPr>
          <a:xfrm>
            <a:off x="1214280" y="4357800"/>
            <a:ext cx="142884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476280" y="952560"/>
            <a:ext cx="8191440" cy="4952880"/>
          </a:xfrm>
          <a:prstGeom prst="rect">
            <a:avLst/>
          </a:prstGeom>
          <a:ln w="0">
            <a:noFill/>
          </a:ln>
        </p:spPr>
      </p:pic>
      <p:sp>
        <p:nvSpPr>
          <p:cNvPr id="1057" name="矩形 2"/>
          <p:cNvSpPr/>
          <p:nvPr/>
        </p:nvSpPr>
        <p:spPr>
          <a:xfrm>
            <a:off x="1928880" y="3571920"/>
            <a:ext cx="42840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2000160" y="5429160"/>
            <a:ext cx="50004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480960" y="1123920"/>
            <a:ext cx="8182080" cy="46101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2" descr=""/>
          <p:cNvPicPr/>
          <p:nvPr/>
        </p:nvPicPr>
        <p:blipFill>
          <a:blip r:embed="rId2"/>
          <a:stretch/>
        </p:blipFill>
        <p:spPr>
          <a:xfrm>
            <a:off x="500040" y="5715000"/>
            <a:ext cx="8201160" cy="981000"/>
          </a:xfrm>
          <a:prstGeom prst="rect">
            <a:avLst/>
          </a:prstGeom>
          <a:ln w="0">
            <a:noFill/>
          </a:ln>
        </p:spPr>
      </p:pic>
      <p:sp>
        <p:nvSpPr>
          <p:cNvPr id="1061" name="矩形 3"/>
          <p:cNvSpPr/>
          <p:nvPr/>
        </p:nvSpPr>
        <p:spPr>
          <a:xfrm>
            <a:off x="7786800" y="1571760"/>
            <a:ext cx="50004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4"/>
          <p:cNvSpPr/>
          <p:nvPr/>
        </p:nvSpPr>
        <p:spPr>
          <a:xfrm>
            <a:off x="6858000" y="3429000"/>
            <a:ext cx="50004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"/>
          <p:cNvSpPr/>
          <p:nvPr/>
        </p:nvSpPr>
        <p:spPr>
          <a:xfrm>
            <a:off x="2000160" y="5715000"/>
            <a:ext cx="50004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490680" y="847800"/>
            <a:ext cx="81626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2:3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